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BC0-B9D4-428E-B8F4-053277EF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608-8A54-45A4-8197-C44387D7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A47-5E33-4F8C-BF5E-D629A10A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FB8A-09B2-4628-8FFA-1A9D8878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FD7-D483-490E-A7EE-815D1952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A9E0-5021-4859-B0C4-E4430401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F24-7AAB-4CB2-9DC1-C0AE0A83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2A30-AE51-4517-B18C-CBD9303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AB7-CB97-4679-BED6-72E809B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A24-521B-4B6C-9465-1E339CF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80C-3B63-44E9-B594-1AB31CE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614-C04A-4DC1-8E6D-230583F9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E22-DA23-461E-B436-B1B06BBD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 DE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GREG CHEET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348000" y="1197000"/>
            <a:ext cx="5029200" cy="486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64500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P SHAKE Caused by the delamination of around the growth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8901200">
            <a:off x="5579640" y="4652640"/>
            <a:ext cx="504720" cy="1224000"/>
          </a:xfrm>
          <a:prstGeom prst="upArrow">
            <a:avLst>
              <a:gd name="adj1" fmla="val 50000"/>
              <a:gd name="adj2" fmla="val 60628"/>
            </a:avLst>
          </a:prstGeom>
          <a:solidFill>
            <a:srgbClr val="ec42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404640"/>
            <a:ext cx="252108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U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K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71640" y="765000"/>
            <a:ext cx="5707080" cy="5248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8901200">
            <a:off x="5866920" y="4076280"/>
            <a:ext cx="505080" cy="1224000"/>
          </a:xfrm>
          <a:prstGeom prst="upArrow">
            <a:avLst>
              <a:gd name="adj1" fmla="val 50000"/>
              <a:gd name="adj2" fmla="val 60584"/>
            </a:avLst>
          </a:prstGeom>
          <a:solidFill>
            <a:srgbClr val="ec42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716280"/>
            <a:ext cx="2051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RT SHAKE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aused by the delamination along the medulary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476280"/>
            <a:ext cx="2232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EART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K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6048360" cy="5419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18901200">
            <a:off x="5579640" y="4365360"/>
            <a:ext cx="504720" cy="1224000"/>
          </a:xfrm>
          <a:prstGeom prst="upArrow">
            <a:avLst>
              <a:gd name="adj1" fmla="val 50000"/>
              <a:gd name="adj2" fmla="val 60628"/>
            </a:avLst>
          </a:prstGeom>
          <a:solidFill>
            <a:srgbClr val="ec42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005360"/>
            <a:ext cx="2017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 SHAK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d by multiple delamination in the medullary 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476280"/>
            <a:ext cx="216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AR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K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860640" cy="203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35640" y="1989000"/>
            <a:ext cx="3114720" cy="1438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905200" cy="1552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580000" y="4941720"/>
            <a:ext cx="2714760" cy="1047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9528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IMBER MOVE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777080" cy="2820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332000" y="620640"/>
            <a:ext cx="6624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THER DEFECT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55640" y="476280"/>
            <a:ext cx="7272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KNOTS AND GUM VEIN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1844640"/>
            <a:ext cx="4032360" cy="176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191120" cy="3009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11280" y="4035600"/>
            <a:ext cx="3456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2:25:48Z</dcterms:created>
  <dc:creator>gcheetham</dc:creator>
  <dc:description/>
  <dc:language>en-US</dc:language>
  <cp:lastModifiedBy>gcheetham</cp:lastModifiedBy>
  <dcterms:modified xsi:type="dcterms:W3CDTF">2005-03-16T03:07:01Z</dcterms:modified>
  <cp:revision>2</cp:revision>
  <dc:subject/>
  <dc:title>TIMBER DEFECTS</dc:title>
</cp:coreProperties>
</file>